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chimes.wav" ContentType="audio/x-wav"/>
  <Override PartName="/ppt/media/image6.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AF9E0-79D3-4B9D-8444-468B60D1F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C4E0-8419-4427-8145-85431FCB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CBDED93-EB54-4E7D-B269-7FB09F8DFF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360C63C-2C30-4AFC-A656-4F984C1B6D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83C06C4-0C9B-4C95-8255-8086F924AF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137603-2D0C-4882-9EBB-6CA74030F1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A6197B-F46B-4A70-9C08-292416F58A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5270DF-E86B-4F57-841F-A424485D3C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42E437-3632-47B0-B7B4-FCD91C33EA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434BC1C-7419-42C2-B815-7F1F8EDAB2C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BABC315-927B-4F85-B3F7-BF8F8CB3DF8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76A52CE-A8C1-4A37-A1F4-FCB150FED4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4E420-3601-4FD8-BA4E-1FEFF3BD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074ED79-0A79-4653-B998-D59B1CA6A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990262D-9CE3-4C30-96C5-F999402075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360870-BE2C-4763-8C93-8B1BB0E9BC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BA05701-B993-4740-926A-EDDFB7CB75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90C66F-CF01-48DD-A830-9B2CBAD4D4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9085F9-9A70-4420-9BE7-13E3988FE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0E402C5-2409-4D20-A7FA-345623AC47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81C8C3-573B-4B7A-BEB2-22D2F0CB52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D96F6D5-7646-4423-91F0-ECF0BD950A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B8CA95B-438A-4F4B-AAE4-82C507CDE9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61F85-E967-423F-A674-D9431492C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AAD1264-E58A-46FB-BC2E-62429B2F20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810590-2AD9-4B73-9884-E7AD76BD46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EA4BBC-2A1E-47C8-8BFE-1EFDCE9D39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1D2D56-69A8-4DA7-A44B-E0C14FAF5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557DD0-0900-46A1-B9F8-ACD90AC572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1E21CA-13ED-43FA-A88C-BB9C6B21F2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F8324E-4636-4940-AA8C-5455D6D1D6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BC3331-721C-4E8E-87D6-BC052147B9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4AC772-5ABB-48D3-8BAE-4DB80BAE1A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397480-A7AF-43CD-A672-9653FA8756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F20B9-FDE0-4FF0-9644-C2C6278BF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F59704-A00B-4A4F-8669-9998E7BC82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7272C6-2028-428C-9C92-864DABBA27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468F2D-B7F4-4C43-A282-D3742AEAD2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211FEE5-150A-4556-ADFA-F63BD728A2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48806A4-D3D5-4752-9DDF-658C8F17CB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24336CF-7246-42CD-AA0A-14F76650E6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7A24976-FC48-4BB2-9E3B-B47F2B0F4B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9F87E9B-7482-4C11-B3C2-612EB0D2E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C2B66F8-309B-4BAE-A744-C856BE25C3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00C35B-16F2-46CF-9311-D7219749D3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9ABB7-98D4-4F70-A4C6-E56784EDA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E3A552-7CC4-4A25-86E9-B738F6883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EF93E1F-C013-4162-A8CE-97EBF6FEE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31D3D3-FABA-4B39-9785-785BBE390B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34FDCBD-943E-4567-8979-505D751BE5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E8ABBB5-76DA-426E-A24E-67472CA950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952E0-5FBC-4998-A30B-7CD888F3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C2099-86C2-4E12-B5A7-367C2A52A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3CB38-402C-4589-8485-1B021C9C8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E4388-7C7D-4383-B77F-AEB075653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62053-4B97-431D-AB97-93E0882F3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E833-CF48-4C3C-88E4-8D9688DC5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B480-21BE-4EAC-BC3F-4223493A8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5E92E-1217-4C84-A143-F9D43AC2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E1A89-25F2-42EB-AC70-0E92B08D6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92101-EB44-4245-9F1E-BCC3F0504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8C888-E8B3-4AE7-BA17-CF576D797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3468E8-48E0-4BED-BE43-C0D30AE848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55A9B-F61C-40E1-988F-97A14BF78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36AD9-9637-4EF0-8C50-9B460E40E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4BCCD-8932-431E-B54D-874E753C7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52C69-F06A-49DF-AC54-66BAA6CD8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A5147-A652-4132-BC74-90847770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A2DB8-DC0C-4E85-939E-3A7202E29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70DC7-A69F-4661-A388-D939E91A9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E838B-B92F-46BA-9DBA-4742C801C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EAE88-54B1-4903-B466-B9FE043B5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53D27-877E-4AA9-A9FA-30236768E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B7750-999E-4658-A1CB-52717FAA88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CF8A4B-49C8-4B2E-933B-8C5E788A3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5E7B355-31AB-40CD-8C5F-9C05E78235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834C5CF-D8C2-4BC2-8F68-325D0DEE64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9C94BE1-C857-4A14-9104-9F2DD99F4D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9A8A9-E0D3-4EC9-B1E0-2A520CF3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1DDC1A-ED53-4BEC-B24D-546BF85650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2858002-16C1-42F5-827A-6479F201B9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58C8AC-0684-45C1-84A6-5A08C44CDF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E213AA-BB9B-427E-AE1E-3C899C9691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B56C5A9-85CF-4D21-B3AE-9DC7F622A6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1EA38A-B2D0-41B8-8635-C205C3B0F8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CE9D682-01FA-488C-A6EE-5C991F82A66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7DEE5ED-6856-4571-B409-EB847BF987C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81BCAC6-DDDF-4A98-AFF6-14D435166D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36ED5C-BF74-4F5C-88FE-2306EE2B79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B3D5-81FF-4FF5-9665-5365A8C43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2485D-6A7B-4DDD-A9B6-C1779F9F0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7F340-B788-474D-B88A-238E62C539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8B3725-CEB1-4E7B-AFD5-280F118F4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B2E50-D854-4CD9-AC79-3E88DD3EFD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59D6D-6B4E-47C4-8623-36B04B5E39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CFA23-2CF9-4BCD-B444-273820F5B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EBE5C-00A6-498E-A7C3-09D8990EA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8C40C-B821-454A-B548-303EC65CF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D93C5-637D-4DE4-852E-89E6B703E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429D7-3488-4C51-A028-63311517DD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336D1-97DC-46EC-88F0-04DB28C85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BC3C60-3559-4C4B-A3B1-56C85D4303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C327B8-EC4D-4BCA-8047-5E1B217A5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E40D81-D75A-4E48-B88E-C8F17095B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92747-A5D4-4C12-88A5-B9C82619A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41189-8931-4C13-9112-F4BFAF829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1DB57-CFE2-4C1C-BC95-677939433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C4D7E7-6B6B-4387-AE2B-191809742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20858-3B5D-4F55-8BE2-3187A4C6F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3A521-27ED-4F31-8095-1419CC19A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D17A8-199F-48B2-8891-2BA7131E2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02D9-C312-482C-911F-FBADC22B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59BB4-DDAE-4337-B907-BE15EEBCF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BC008-2319-42E3-BD1C-5C0702593B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392BC-2044-4200-B1D8-116586BED3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18667A-A3E5-4B88-9378-85C5E3668D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3096E-5C5C-4C5C-A55F-3761887DF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458876-C06C-41E2-9A3B-2F4E9BA386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E228C6-5D40-4F0E-85F1-800C65402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F35F0-2F15-4638-990C-D4E7C8815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8FB01-7FD4-4A92-B1D2-04F7C6CDAA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17A94-0E86-4DD8-A797-311A20208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1C7D-1AC1-4976-BA51-A309ADAB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56450-081A-48F6-A396-DC268B1F4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CBAB8-8011-42D5-BC7E-2CC68C497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1412BD-7F3C-4EB7-9A61-F88459832E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6E844-928B-4D56-BB95-52E92DDAEE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8D2517-E742-47C3-8EA2-3873BBBCF0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D577BB-90E4-4699-B6A1-24079DAADD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2A667-B3A5-4505-9FFE-4A2BF0014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D6D13-8F48-48AE-9224-081792597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1C630-5564-4C38-956A-873D7CCC7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560D6-335E-4C50-90B1-1024BB7502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67F6-0D90-4F5D-B27B-3CBE1C2C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3F74F5-C90D-4CB1-8899-E5911924C6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70282-BDE6-4E73-892B-22D36B010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2D125-B8E3-4C34-9AAC-4DB26A399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ACBEF-4830-4F2C-AF4B-637242884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3B5D1-BB0D-4EF7-B0C5-696E73B5D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1EB608-AF2D-4892-A3B2-4F56763FD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A8E60D-66F3-48A8-A255-EBD8C16718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0859B41-4DA7-4AAB-A3F8-951B5D39DEA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1E415C-DF69-43F5-9F67-E5D9315686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5E7A3D-022D-4DA9-96E9-5874431AC9E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375B-B879-474C-A23E-02BB7BC6428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773B-9213-4707-9D3B-365836E6E0A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6DA9-5B30-46E9-8596-9408C77C60E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A4DF-A499-4EBE-B76F-AAE86CFDA7E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D0D7-4320-43CC-9E24-EB4F48CE209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58DE-8F1B-4471-839F-F4DE0DEB9BC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BCA2-0CF2-4C76-9F71-57AD8FE5F79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0E3D-4665-4F1B-842C-3CAB1FCC901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81D1-8ADD-41AB-BE7D-293F0724B2B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C77C-4AE9-43E9-8157-736634BD1F3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3259-7D02-43BE-AC7D-B37151540378}"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ECDD-905C-4A34-A8DA-F5AC6E314A2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6" descr="C:\Users\Godissluv\AppData\Local\Microsoft\Windows\Temporary Internet Files\Content.IE5\LSPHXEYT\MC900056792[1].wmf"/>
          <p:cNvPicPr/>
          <p:nvPr/>
        </p:nvPicPr>
        <p:blipFill>
          <a:blip r:embed="rId1"/>
          <a:stretch/>
        </p:blipFill>
        <p:spPr>
          <a:xfrm>
            <a:off x="609480" y="2438280"/>
            <a:ext cx="7786800" cy="3367080"/>
          </a:xfrm>
          <a:prstGeom prst="rect">
            <a:avLst/>
          </a:prstGeom>
          <a:ln w="0">
            <a:noFill/>
          </a:ln>
        </p:spPr>
      </p:pic>
      <p:sp>
        <p:nvSpPr>
          <p:cNvPr id="607" name="PlaceHolder 1"/>
          <p:cNvSpPr>
            <a:spLocks noGrp="1"/>
          </p:cNvSpPr>
          <p:nvPr>
            <p:ph type="subTitle"/>
          </p:nvPr>
        </p:nvSpPr>
        <p:spPr>
          <a:xfrm>
            <a:off x="1371240" y="3123720"/>
            <a:ext cx="7467480" cy="3581640"/>
          </a:xfrm>
          <a:prstGeom prst="rect">
            <a:avLst/>
          </a:prstGeom>
          <a:noFill/>
          <a:ln w="0">
            <a:noFill/>
          </a:ln>
        </p:spPr>
        <p:txBody>
          <a:bodyPr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NERLYNE ST. PIERRE</a:t>
            </a: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WILBERTA WILLIAM</a:t>
            </a:r>
            <a:endParaRPr b="0" lang="en-US" sz="1800" spc="-1" strike="noStrike">
              <a:solidFill>
                <a:srgbClr val="000000"/>
              </a:solidFill>
              <a:latin typeface="Georg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EDUCATION 702.22 – FALL 2010</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A combination of Teacher-centered and Student-centered classroom management approaches will improve students’ reading and writing skills.</a:t>
            </a:r>
            <a:endParaRPr b="0" lang="en-US" sz="3200" spc="-1" strike="noStrike">
              <a:solidFill>
                <a:srgbClr val="7b9899"/>
              </a:solidFill>
              <a:latin typeface="Georgia"/>
            </a:endParaRPr>
          </a:p>
        </p:txBody>
      </p:sp>
    </p:spTree>
  </p:cSld>
  <p:transition spd="med">
    <p:wipe dir="d"/>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3" name=""/>
          <p:cNvSpPr txBox="1"/>
          <p:nvPr/>
        </p:nvSpPr>
        <p:spPr>
          <a:xfrm>
            <a:off x="301320" y="1527120"/>
            <a:ext cx="8504280" cy="479736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oyle, W.  (2009).  Situated practice: A reflection on person-centered classroom management.  </a:t>
            </a:r>
            <a:r>
              <a:rPr b="0" i="1" lang="en-US" sz="1300" spc="-1" strike="noStrike">
                <a:solidFill>
                  <a:srgbClr val="000000"/>
                </a:solidFill>
                <a:latin typeface="Georgia"/>
              </a:rPr>
              <a:t>Theory Into Practice, 48, 156-159.</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Garrett, T.  (2008).  Student-centered and teacher-centered classroom management: A case study of three elementary teachers. </a:t>
            </a:r>
            <a:r>
              <a:rPr b="0" i="1" lang="en-US" sz="1300" spc="-1" strike="noStrike">
                <a:solidFill>
                  <a:srgbClr val="000000"/>
                </a:solidFill>
                <a:latin typeface="Georgia"/>
              </a:rPr>
              <a:t>Journal of Classroom Interaction,  43 (1), 34-47.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Freiberg,  H.  J.,  Huzinee,  C. A.,  &amp; Templeton S. M.  (2009).  Classroom Management—a Pathway to Student Achievement: A Study of Fourteen Inner-City Elementary Schools. </a:t>
            </a:r>
            <a:r>
              <a:rPr b="0" i="1" lang="en-US" sz="1300" spc="-1" strike="noStrike">
                <a:solidFill>
                  <a:srgbClr val="000000"/>
                </a:solidFill>
                <a:latin typeface="Georgia"/>
              </a:rPr>
              <a:t>The  Elementary School Journal</a:t>
            </a:r>
            <a:r>
              <a:rPr b="0" lang="en-US" sz="1300" spc="-1" strike="noStrike">
                <a:solidFill>
                  <a:srgbClr val="000000"/>
                </a:solidFill>
                <a:latin typeface="Georgia"/>
              </a:rPr>
              <a:t>, </a:t>
            </a:r>
            <a:r>
              <a:rPr b="0" i="1" lang="en-US" sz="1300" spc="-1" strike="noStrike">
                <a:solidFill>
                  <a:srgbClr val="000000"/>
                </a:solidFill>
                <a:latin typeface="Georgia"/>
              </a:rPr>
              <a:t>110</a:t>
            </a:r>
            <a:r>
              <a:rPr b="0" lang="en-US" sz="1300" spc="-1" strike="noStrike">
                <a:solidFill>
                  <a:srgbClr val="000000"/>
                </a:solidFill>
                <a:latin typeface="Georgia"/>
              </a:rPr>
              <a:t>(1), 63-80.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Freiberg, H. J. , &amp; Lamb, S. M.  (2009).  Dimensions of person-centered classroom management.  </a:t>
            </a:r>
            <a:r>
              <a:rPr b="0" i="1" lang="en-US" sz="1300" spc="-1" strike="noStrike">
                <a:solidFill>
                  <a:srgbClr val="000000"/>
                </a:solidFill>
                <a:latin typeface="Georgia"/>
              </a:rPr>
              <a:t>Theory Into Practice, 48, 99-105.</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Hertzog,  N. B.  (2007).  Transporting pedagogy: Implementing the project approach in two firstgrade classrooms. </a:t>
            </a:r>
            <a:r>
              <a:rPr b="0" i="1" lang="en-US" sz="1300" spc="-1" strike="noStrike">
                <a:solidFill>
                  <a:srgbClr val="000000"/>
                </a:solidFill>
                <a:latin typeface="Georgia"/>
              </a:rPr>
              <a:t>Journal of Advanced Academics, 18(4), 530-564</a:t>
            </a:r>
            <a:r>
              <a:rPr b="0" lang="en-US" sz="1400" spc="-1" strike="noStrike">
                <a:solidFill>
                  <a:srgbClr val="000000"/>
                </a:solidFill>
                <a:latin typeface="Georgia"/>
              </a:rPr>
              <a:t>.</a:t>
            </a:r>
            <a:endParaRPr b="0" lang="en-US" sz="14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Higgins,  K., &amp; Moule,  J.  (2009).  “No More Mr. Nice Guy”: Preservice Teachers' Conflict With Classroom Management in a Predominantly African-American Urban Elementary School. </a:t>
            </a:r>
            <a:r>
              <a:rPr b="0" i="1" lang="en-US" sz="1300" spc="-1" strike="noStrike">
                <a:solidFill>
                  <a:srgbClr val="000000"/>
                </a:solidFill>
                <a:latin typeface="Georgia"/>
              </a:rPr>
              <a:t>Multicultural Perspectives</a:t>
            </a:r>
            <a:r>
              <a:rPr b="0" lang="en-US" sz="1300" spc="-1" strike="noStrike">
                <a:solidFill>
                  <a:srgbClr val="000000"/>
                </a:solidFill>
                <a:latin typeface="Georgia"/>
              </a:rPr>
              <a:t>, </a:t>
            </a:r>
            <a:r>
              <a:rPr b="0" i="1" lang="en-US" sz="1300" spc="-1" strike="noStrike">
                <a:solidFill>
                  <a:srgbClr val="000000"/>
                </a:solidFill>
                <a:latin typeface="Georgia"/>
              </a:rPr>
              <a:t>11 </a:t>
            </a:r>
            <a:r>
              <a:rPr b="0" lang="en-US" sz="1300" spc="-1" strike="noStrike">
                <a:solidFill>
                  <a:srgbClr val="000000"/>
                </a:solidFill>
                <a:latin typeface="Georgia"/>
              </a:rPr>
              <a:t>(3), 132-138.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Johnson, V. (1994).  Student Teachers' Conceptions of Classroom Control. </a:t>
            </a:r>
            <a:r>
              <a:rPr b="0" i="1" lang="en-US" sz="1300" spc="-1" strike="noStrike">
                <a:solidFill>
                  <a:srgbClr val="000000"/>
                </a:solidFill>
                <a:latin typeface="Georgia"/>
              </a:rPr>
              <a:t>Journal of Educational Research</a:t>
            </a:r>
            <a:r>
              <a:rPr b="0" lang="en-US" sz="1300" spc="-1" strike="noStrike">
                <a:solidFill>
                  <a:srgbClr val="000000"/>
                </a:solidFill>
                <a:latin typeface="Georgia"/>
              </a:rPr>
              <a:t>, </a:t>
            </a:r>
            <a:r>
              <a:rPr b="0" i="1" lang="en-US" sz="1300" spc="-1" strike="noStrike">
                <a:solidFill>
                  <a:srgbClr val="000000"/>
                </a:solidFill>
                <a:latin typeface="Georgia"/>
              </a:rPr>
              <a:t>88 </a:t>
            </a:r>
            <a:r>
              <a:rPr b="0" lang="en-US" sz="1300" spc="-1" strike="noStrike">
                <a:solidFill>
                  <a:srgbClr val="000000"/>
                </a:solidFill>
                <a:latin typeface="Georgia"/>
              </a:rPr>
              <a:t>(2), 109-117. Retrieved from E-Journals database.</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Kilpatrick, W. H (1918). The Project Method. </a:t>
            </a:r>
            <a:r>
              <a:rPr b="0" i="1" lang="en-US" sz="1300" spc="-1" strike="noStrike">
                <a:solidFill>
                  <a:srgbClr val="000000"/>
                </a:solidFill>
                <a:latin typeface="Georgia"/>
              </a:rPr>
              <a:t>Teachers College Record</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Lemov, D.  (2010).  </a:t>
            </a:r>
            <a:r>
              <a:rPr b="0" i="1" lang="en-US" sz="1300" spc="-1" strike="noStrike">
                <a:solidFill>
                  <a:srgbClr val="000000"/>
                </a:solidFill>
                <a:latin typeface="Georgia"/>
              </a:rPr>
              <a:t>Teach like a champion: 49 Techniques that put students on the path to college</a:t>
            </a:r>
            <a:r>
              <a:rPr b="0" lang="en-US" sz="1300" spc="-1" strike="noStrike">
                <a:solidFill>
                  <a:srgbClr val="000000"/>
                </a:solidFill>
                <a:latin typeface="Georgia"/>
              </a:rPr>
              <a:t>.  San Francisco, CA:  Jossey-Bass.</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Georgia"/>
              </a:rPr>
              <a:t>Lewis-Palmer,  T. , Merrell, K. , &amp; Reinke, W. M.  </a:t>
            </a:r>
            <a:r>
              <a:rPr b="0" lang="en-US" sz="1300" spc="-1" strike="noStrike">
                <a:solidFill>
                  <a:srgbClr val="000000"/>
                </a:solidFill>
                <a:latin typeface="Georgia"/>
              </a:rPr>
              <a:t>(2008).  The classroom check-up: A classwide teacher consultation model for increasing praise and decreasing disruptive behavior.  </a:t>
            </a:r>
            <a:r>
              <a:rPr b="0" i="1" lang="en-US" sz="1300" spc="-1" strike="noStrike">
                <a:solidFill>
                  <a:srgbClr val="000000"/>
                </a:solidFill>
                <a:latin typeface="Georgia"/>
              </a:rPr>
              <a:t>School Psychology Review, 37(3), 315-332.</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Martin, N. K. ,  Mayall, H.  &amp; Yin, Z.  (2006).  Classroom management training, teaching experience and gender: Do these variables impact teachers’ attitudes and beliefs toward classroom management style?  Paper presented at: </a:t>
            </a:r>
            <a:r>
              <a:rPr b="0" i="1" lang="en-US" sz="1300" spc="-1" strike="noStrike">
                <a:solidFill>
                  <a:srgbClr val="000000"/>
                </a:solidFill>
                <a:latin typeface="Georgia"/>
              </a:rPr>
              <a:t>The Annual Conference of Southwest Educational Research Association</a:t>
            </a:r>
            <a:r>
              <a:rPr b="0" lang="en-US" sz="1300" spc="-1" strike="noStrike">
                <a:solidFill>
                  <a:srgbClr val="000000"/>
                </a:solidFill>
                <a:latin typeface="Georgia"/>
              </a:rPr>
              <a:t>.Austin, TX.</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Milner,  H.  R. , &amp; Tenore, F. B. (2010).  Classroom management in diverse classrooms.  Urban Education, 45(5), 560-603. </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Montessori, M.  (1912).  </a:t>
            </a:r>
            <a:r>
              <a:rPr b="0" i="1" lang="it-IT" sz="1300" spc="-1" strike="noStrike">
                <a:solidFill>
                  <a:srgbClr val="000000"/>
                </a:solidFill>
                <a:latin typeface="Georgia"/>
              </a:rPr>
              <a:t>The Montessori Method. </a:t>
            </a:r>
            <a:r>
              <a:rPr b="0" lang="en-US" sz="1300" spc="-1" strike="noStrike">
                <a:solidFill>
                  <a:srgbClr val="000000"/>
                </a:solidFill>
                <a:latin typeface="Georgia"/>
              </a:rPr>
              <a:t>Schocken Books, Inc.</a:t>
            </a: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0000" indent="-270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0000" indent="-270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Poulou,  M. S. , (2009 ).  Classroom interactions: Teachers’ and students’ perceptions.  </a:t>
            </a:r>
            <a:r>
              <a:rPr b="0" i="1" lang="en-US" sz="1300" spc="-1" strike="noStrike">
                <a:solidFill>
                  <a:srgbClr val="000000"/>
                </a:solidFill>
                <a:latin typeface="Georgia"/>
              </a:rPr>
              <a:t>Research in Education, 82, 103-106.</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Rosas,  C. ,  West. M.  (2009).  Teachers beliefs about classroom management: Pre-service and in-service teachers’ beliefs about classroom management.  </a:t>
            </a:r>
            <a:r>
              <a:rPr b="0" i="1" lang="en-US" sz="1300" spc="-1" strike="noStrike">
                <a:solidFill>
                  <a:srgbClr val="000000"/>
                </a:solidFill>
                <a:latin typeface="Georgia"/>
              </a:rPr>
              <a:t>International Journal of Applied Educational Studies,5(1), 54-61.</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Trussell, R. P.  (2008).  Classroom Universals to prevent problem behaviors.  </a:t>
            </a:r>
            <a:r>
              <a:rPr b="0" i="1" lang="en-US" sz="1300" spc="-1" strike="noStrike">
                <a:solidFill>
                  <a:srgbClr val="000000"/>
                </a:solidFill>
                <a:latin typeface="Georgia"/>
              </a:rPr>
              <a:t>Intervention in School and Clinic, 43(3), 179-185.</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Unal,  Z. , &amp; Unal,  A.  (2009).  Comparing Beginning and Experienced Teachers' Perceptions of Classroom Management Beliefs and Practices in Elementary Schools in Turkey.  </a:t>
            </a:r>
            <a:r>
              <a:rPr b="0" i="1" lang="en-US" sz="1300" spc="-1" strike="noStrike">
                <a:solidFill>
                  <a:srgbClr val="000000"/>
                </a:solidFill>
                <a:latin typeface="Georgia"/>
              </a:rPr>
              <a:t>The Educational Forum</a:t>
            </a:r>
            <a:r>
              <a:rPr b="0" lang="en-US" sz="1300" spc="-1" strike="noStrike">
                <a:solidFill>
                  <a:srgbClr val="000000"/>
                </a:solidFill>
                <a:latin typeface="Georgia"/>
              </a:rPr>
              <a:t>, </a:t>
            </a:r>
            <a:r>
              <a:rPr b="0" i="1" lang="en-US" sz="1300" spc="-1" strike="noStrike">
                <a:solidFill>
                  <a:srgbClr val="000000"/>
                </a:solidFill>
                <a:latin typeface="Georgia"/>
              </a:rPr>
              <a:t>73 </a:t>
            </a:r>
            <a:r>
              <a:rPr b="0" lang="en-US" sz="1300" spc="-1" strike="noStrike">
                <a:solidFill>
                  <a:srgbClr val="000000"/>
                </a:solidFill>
                <a:latin typeface="Georgia"/>
              </a:rPr>
              <a:t>(3),  256-270.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Walker,  J. M. T. (2009).  Authoritative classroom management: how control and nurturance work together.  </a:t>
            </a:r>
            <a:r>
              <a:rPr b="0" i="1" lang="en-US" sz="1300" spc="-1" strike="noStrike">
                <a:solidFill>
                  <a:srgbClr val="000000"/>
                </a:solidFill>
                <a:latin typeface="Georgia"/>
              </a:rPr>
              <a:t>Theory Into Practice, 48, 122-129.</a:t>
            </a:r>
            <a:r>
              <a:rPr b="0" lang="en-US"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Weiner,  Lois.  </a:t>
            </a:r>
            <a:r>
              <a:rPr b="0" lang="en-US" sz="1300" spc="-1" strike="noStrike" u="sng">
                <a:solidFill>
                  <a:srgbClr val="000000"/>
                </a:solidFill>
                <a:uFillTx/>
                <a:latin typeface="Georgia"/>
              </a:rPr>
              <a:t>Why Is Classroom Management So Vexing to Urban Teachers?</a:t>
            </a:r>
            <a:r>
              <a:rPr b="0" lang="en-US" sz="1300" spc="-1" strike="noStrike">
                <a:solidFill>
                  <a:srgbClr val="000000"/>
                </a:solidFill>
                <a:latin typeface="Georgia"/>
              </a:rPr>
              <a:t> </a:t>
            </a:r>
            <a:r>
              <a:rPr b="0" i="1" lang="en-US" sz="1300" spc="-1" strike="noStrike" u="sng">
                <a:solidFill>
                  <a:srgbClr val="000000"/>
                </a:solidFill>
                <a:uFillTx/>
                <a:latin typeface="Georgia"/>
              </a:rPr>
              <a:t>Theory into Practice</a:t>
            </a:r>
            <a:r>
              <a:rPr b="0" lang="en-US" sz="1300" spc="-1" strike="noStrike">
                <a:solidFill>
                  <a:srgbClr val="000000"/>
                </a:solidFill>
                <a:latin typeface="Georgia"/>
              </a:rPr>
              <a:t>, Vol. 42,  No.  4,  Classroom Management in a Diverse Society (Autumn,  2003),  pp.  305-312</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he End!</a:t>
            </a:r>
            <a:endParaRPr b="0" lang="en-US" sz="40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0" name="Picture 4" descr="http://tagadavao.files.wordpress.com/2008/07/applause.gif"/>
          <p:cNvPicPr/>
          <p:nvPr/>
        </p:nvPicPr>
        <p:blipFill>
          <a:blip r:embed="rId1"/>
          <a:stretch/>
        </p:blipFill>
        <p:spPr>
          <a:xfrm>
            <a:off x="2514600" y="1523880"/>
            <a:ext cx="4086360" cy="41911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Table of Contents</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Introduction</a:t>
            </a:r>
            <a:endParaRPr b="0" lang="en-US" sz="40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ment of the Problem</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view of Related Literature</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ment of Hypothesis</a:t>
            </a:r>
            <a:endParaRPr b="0" lang="en-US" sz="3600" spc="-1" strike="noStrike">
              <a:solidFill>
                <a:srgbClr val="000000"/>
              </a:solidFill>
              <a:latin typeface="Georgia"/>
            </a:endParaRPr>
          </a:p>
          <a:p>
            <a:pPr marL="264600" indent="-264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thod</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articipants</a:t>
            </a:r>
            <a:endParaRPr b="0" lang="en-US" sz="3600" spc="-1" strike="noStrike">
              <a:solidFill>
                <a:srgbClr val="000000"/>
              </a:solidFill>
              <a:latin typeface="Georgia"/>
            </a:endParaRPr>
          </a:p>
          <a:p>
            <a:pPr marL="264600" indent="-264600">
              <a:spcBef>
                <a:spcPts val="9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strument(s)</a:t>
            </a:r>
            <a:endParaRPr b="0" lang="en-US" sz="3600" spc="-1" strike="noStrike">
              <a:solidFill>
                <a:srgbClr val="000000"/>
              </a:solidFill>
              <a:latin typeface="Georgia"/>
            </a:endParaRPr>
          </a:p>
        </p:txBody>
      </p:sp>
    </p:spTree>
  </p:cSld>
  <p:transition spd="med">
    <p:wipe dir="d"/>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a:t>
            </a:r>
            <a:r>
              <a:rPr b="1" lang="en-US" sz="3300" spc="-1" strike="noStrike">
                <a:solidFill>
                  <a:srgbClr val="000000"/>
                </a:solidFill>
                <a:latin typeface="Georgia"/>
              </a:rPr>
              <a:t>ntroduction</a:t>
            </a:r>
            <a:endParaRPr b="0" lang="en-US" sz="3300" spc="-1" strike="noStrike">
              <a:solidFill>
                <a:srgbClr val="7b9899"/>
              </a:solidFill>
              <a:latin typeface="Georgia"/>
            </a:endParaRPr>
          </a:p>
        </p:txBody>
      </p:sp>
      <p:sp>
        <p:nvSpPr>
          <p:cNvPr id="612"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room management has received a great amount of attention in recent years. When one thinks about the term classroom management, one immediately assume negative behavioral issues. Although, negative behavior is the main part of the issue, any type of disruptive behavior and classroom structure should be factored when mentioning classroom management.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order for teachers to successfully teach and students to academically succeed; an orderly classroom environment with minimum disruption to bring behavior under control is needed. There must be a carefully planned technique system of procedures, rules and routines that creates an atmosphere to learn. </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C:\Users\Godissluv\AppData\Local\Microsoft\Windows\Temporary Internet Files\Content.IE5\3DYN1UD3\MC900056680[1].wmf"/>
          <p:cNvPicPr/>
          <p:nvPr/>
        </p:nvPicPr>
        <p:blipFill>
          <a:blip r:embed="rId1"/>
          <a:stretch/>
        </p:blipFill>
        <p:spPr>
          <a:xfrm>
            <a:off x="7010280" y="5791320"/>
            <a:ext cx="1863720" cy="1066680"/>
          </a:xfrm>
          <a:prstGeom prst="rect">
            <a:avLst/>
          </a:prstGeom>
          <a:ln w="0">
            <a:noFill/>
          </a:ln>
        </p:spPr>
      </p:pic>
      <p:pic>
        <p:nvPicPr>
          <p:cNvPr id="614" name="Picture 2" descr="C:\Users\Godissluv\AppData\Local\Microsoft\Windows\Temporary Internet Files\Content.IE5\LSPHXEYT\MC900060317[1].wmf"/>
          <p:cNvPicPr/>
          <p:nvPr/>
        </p:nvPicPr>
        <p:blipFill>
          <a:blip r:embed="rId2"/>
          <a:stretch/>
        </p:blipFill>
        <p:spPr>
          <a:xfrm>
            <a:off x="152280" y="152280"/>
            <a:ext cx="2062440" cy="1067040"/>
          </a:xfrm>
          <a:prstGeom prst="rect">
            <a:avLst/>
          </a:prstGeom>
          <a:ln w="0">
            <a:noFill/>
          </a:ln>
        </p:spPr>
      </p:pic>
      <p:sp>
        <p:nvSpPr>
          <p:cNvPr id="615" name="PlaceHolder 1"/>
          <p:cNvSpPr>
            <a:spLocks noGrp="1"/>
          </p:cNvSpPr>
          <p:nvPr>
            <p:ph type="title"/>
          </p:nvPr>
        </p:nvSpPr>
        <p:spPr>
          <a:xfrm>
            <a:off x="609120" y="228600"/>
            <a:ext cx="8534520" cy="758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Georgia"/>
              </a:rPr>
              <a:t>Statement of the Problem</a:t>
            </a:r>
            <a:br>
              <a:rPr sz="3000"/>
            </a:br>
            <a:endParaRPr b="0" lang="en-US" sz="3000" spc="-1" strike="noStrike">
              <a:solidFill>
                <a:srgbClr val="7b9899"/>
              </a:solidFill>
              <a:latin typeface="Georgia"/>
            </a:endParaRPr>
          </a:p>
        </p:txBody>
      </p:sp>
      <p:sp>
        <p:nvSpPr>
          <p:cNvPr id="616" name=""/>
          <p:cNvSpPr txBox="1"/>
          <p:nvPr/>
        </p:nvSpPr>
        <p:spPr>
          <a:xfrm>
            <a:off x="304560" y="1294920"/>
            <a:ext cx="8504280" cy="4876920"/>
          </a:xfrm>
          <a:prstGeom prst="rect">
            <a:avLst/>
          </a:prstGeom>
          <a:noFill/>
          <a:ln w="0">
            <a:noFill/>
          </a:ln>
        </p:spPr>
        <p:txBody>
          <a:bodyPr anchor="t">
            <a:normAutofit fontScale="95000"/>
          </a:bodyPr>
          <a:p>
            <a:pPr marL="259200" indent="-259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nner-City Public schools are failing our students, particularly minority students from low-income backgrounds.</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eachers need to consider whether they have eliminated all instructional impediments and distractions in the classroom. </a:t>
            </a:r>
            <a:endParaRPr b="0" lang="en-US" sz="1900" spc="-1" strike="noStrike">
              <a:solidFill>
                <a:srgbClr val="000000"/>
              </a:solidFill>
              <a:latin typeface="Georgia"/>
            </a:endParaRPr>
          </a:p>
          <a:p>
            <a:pPr marL="259200" indent="-259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t has been argued that establishing classroom procedures/routines and utilizing actionable techniques, such as non-verbal cues and positive framing,  is extremely vital to an efficient and academically successfully classroom.</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re students more prone to academic success in a structured classroom environment, unstructured classroom environment or a hybrid of the two? </a:t>
            </a: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259200" indent="-259200">
              <a:lnSpc>
                <a:spcPct val="80000"/>
              </a:lnSpc>
              <a:spcBef>
                <a:spcPts val="4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This study will examine the progressive ideology that student should be able to govern themselves and the conservative ideology of a structured classroom environment and the hybrid approach.</a:t>
            </a:r>
            <a:endParaRPr b="0" lang="en-US" sz="1900" spc="-1" strike="noStrike">
              <a:solidFill>
                <a:srgbClr val="000000"/>
              </a:solidFill>
              <a:latin typeface="Georgia"/>
            </a:endParaRPr>
          </a:p>
        </p:txBody>
      </p:sp>
    </p:spTree>
  </p:cSld>
  <p:transition spd="med">
    <p:wipe dir="d"/>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Review of Related Literature</a:t>
            </a:r>
            <a:endParaRPr b="0" lang="en-US" sz="3300" spc="-1" strike="noStrike">
              <a:solidFill>
                <a:srgbClr val="7b9899"/>
              </a:solidFill>
              <a:latin typeface="Georgia"/>
            </a:endParaRPr>
          </a:p>
        </p:txBody>
      </p:sp>
      <p:sp>
        <p:nvSpPr>
          <p:cNvPr id="618" name=""/>
          <p:cNvSpPr txBox="1"/>
          <p:nvPr/>
        </p:nvSpPr>
        <p:spPr>
          <a:xfrm>
            <a:off x="304560" y="1371240"/>
            <a:ext cx="8504280" cy="525780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Three Approaches to Classroom Management</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ructured teacher centere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eacher  tends to take control of the situation by implementing immediately a disciplinary tactic to control behavior. Disciplinary tactics used by interventionist teachers to control the environment may include isolation, physical restraints, modeling, and reinforcement.</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personal power and authority of teachers through displays of power, demanding students to listen, starting out strict and the use of punishment to keep students behaving well</a:t>
            </a:r>
            <a:endParaRPr b="0" lang="en-US" sz="14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Unstructured student centere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goal is for the teacher to demonstrate empathy toward students to devise compromises in an effort to provide opportunities for students to self correct inappropriate behaviors and learn to manage their own behavior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teacher plan fun lessons and let students decide, at the expense of classroom order.</a:t>
            </a:r>
            <a:endParaRPr b="0" lang="en-US" sz="14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Hybrid approach</a:t>
            </a:r>
            <a:endParaRPr b="0" lang="en-US" sz="18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The teacher combines structured and unstructured approach to effectively run the classroom.</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Emphasis is placed on the importance of establishing and consistently enforcing class rules; well-planned, well-paced lessons; and monitor student to prevent misbehavior from occurring.</a:t>
            </a:r>
            <a:endParaRPr b="0" lang="en-US" sz="1400" spc="-1" strike="noStrike">
              <a:solidFill>
                <a:srgbClr val="000000"/>
              </a:solidFill>
              <a:latin typeface="Georg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240"/>
            <a:ext cx="85345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Review of Related Literature</a:t>
            </a:r>
            <a:endParaRPr b="0" lang="en-US" sz="3300" spc="-1" strike="noStrike">
              <a:solidFill>
                <a:srgbClr val="7b9899"/>
              </a:solidFill>
              <a:latin typeface="Georgia"/>
            </a:endParaRPr>
          </a:p>
        </p:txBody>
      </p:sp>
      <p:sp>
        <p:nvSpPr>
          <p:cNvPr id="620" name=""/>
          <p:cNvSpPr txBox="1"/>
          <p:nvPr/>
        </p:nvSpPr>
        <p:spPr>
          <a:xfrm>
            <a:off x="152280" y="1371600"/>
            <a:ext cx="8839440" cy="5486400"/>
          </a:xfrm>
          <a:prstGeom prst="rect">
            <a:avLst/>
          </a:prstGeom>
          <a:noFill/>
          <a:ln w="0">
            <a:noFill/>
          </a:ln>
        </p:spPr>
        <p:txBody>
          <a:bodyPr anchor="t">
            <a:normAutofit/>
          </a:bodyPr>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 Pros:  Supporters of an Authoritative Teacher-Centered Approach to Classroom Management.</a:t>
            </a:r>
            <a:r>
              <a:rPr b="0" lang="en-US" sz="1200" spc="-1" strike="noStrike">
                <a:solidFill>
                  <a:srgbClr val="000000"/>
                </a:solidFill>
                <a:latin typeface="Georgia"/>
              </a:rPr>
              <a:t>	</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crease Academic achieve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fe learning environ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ecrease drop out rat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top teacher attrition</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orists/Practitioners: Allen (2010); Clement(2010); Martin, Mayall, Yin (2006); Lewis-Palmer, Merrell, Reinke  (2008); Walker (2009).</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I. Cons: Supporters of Progressive Student-Centered Approach to Classroom Management </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Restricts students ability to self-direct and self-disciplin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ails to create a balance between the wants of the teacher and the efforts of the stud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Not culturally responsiv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tudents have little or no voice</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eorgia"/>
              </a:rPr>
              <a:t>Theorists/Practitioners: Montessori(1912); Dewey (1916); Kilpatrick, (1918);  Freiberg &amp; Lamb (2009); Doyle (1916); Milner &amp; Tenore (2010).</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II. Hybrid:  Supporters of a combination of Teacher-centered and Student-centered</a:t>
            </a: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Argument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BS</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each like a champion - 49 techniques to classroom management</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orist/Practitioners : Lemov (2010); Trussell (2008).</a:t>
            </a:r>
            <a:endParaRPr b="0" lang="en-US" sz="1200" spc="-1" strike="noStrike">
              <a:solidFill>
                <a:srgbClr val="000000"/>
              </a:solidFill>
              <a:latin typeface="Georgia"/>
            </a:endParaRPr>
          </a:p>
          <a:p>
            <a:pPr marL="399960" indent="-39996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99960" indent="-39996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399960" indent="-39996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1" name="Picture 9" descr="http://upload.wikimedia.org/wikipedia/en/3/37/Ed_hirsch_jr.png"/>
          <p:cNvPicPr/>
          <p:nvPr/>
        </p:nvPicPr>
        <p:blipFill>
          <a:blip r:embed="rId1"/>
          <a:stretch/>
        </p:blipFill>
        <p:spPr>
          <a:xfrm>
            <a:off x="8001000" y="152280"/>
            <a:ext cx="914400" cy="914400"/>
          </a:xfrm>
          <a:prstGeom prst="rect">
            <a:avLst/>
          </a:prstGeom>
          <a:ln w="0">
            <a:noFill/>
          </a:ln>
        </p:spPr>
      </p:pic>
      <p:sp>
        <p:nvSpPr>
          <p:cNvPr id="622" name="TextBox 8"/>
          <p:cNvSpPr/>
          <p:nvPr/>
        </p:nvSpPr>
        <p:spPr>
          <a:xfrm>
            <a:off x="7924680" y="10666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g Lemov  </a:t>
            </a:r>
            <a:endParaRPr b="0" lang="en-US" sz="1200" spc="-1" strike="noStrike">
              <a:solidFill>
                <a:srgbClr val="000000"/>
              </a:solidFill>
              <a:latin typeface="Arial"/>
            </a:endParaRPr>
          </a:p>
        </p:txBody>
      </p:sp>
      <p:pic>
        <p:nvPicPr>
          <p:cNvPr id="623" name="Picture 5" descr="http://www.iasd.cc/piper/PiperJill_ITspec_cert/IT%20Portfolio/Portfolio_Pages/HistAndPhilFall06website/Ch8/8-DarraghCurtin/Diane%20Ravitch.jpg"/>
          <p:cNvPicPr/>
          <p:nvPr/>
        </p:nvPicPr>
        <p:blipFill>
          <a:blip r:embed="rId2"/>
          <a:stretch/>
        </p:blipFill>
        <p:spPr>
          <a:xfrm>
            <a:off x="152280" y="152280"/>
            <a:ext cx="803520" cy="974880"/>
          </a:xfrm>
          <a:prstGeom prst="rect">
            <a:avLst/>
          </a:prstGeom>
          <a:ln w="0">
            <a:noFill/>
          </a:ln>
        </p:spPr>
      </p:pic>
      <p:sp>
        <p:nvSpPr>
          <p:cNvPr id="624" name="TextBox 6"/>
          <p:cNvSpPr/>
          <p:nvPr/>
        </p:nvSpPr>
        <p:spPr>
          <a:xfrm>
            <a:off x="152280" y="1066680"/>
            <a:ext cx="152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Montessori</a:t>
            </a:r>
            <a:endParaRPr b="0" lang="en-US" sz="1200" spc="-1" strike="noStrike">
              <a:solidFill>
                <a:srgbClr val="000000"/>
              </a:solidFill>
              <a:latin typeface="Arial"/>
            </a:endParaRPr>
          </a:p>
        </p:txBody>
      </p:sp>
      <p:pic>
        <p:nvPicPr>
          <p:cNvPr id="625" name="Picture 7" descr="http://4.bp.blogspot.com/_fPoWZ33QqG4/Seff_OByLiI/AAAAAAAAEFE/SHMeU_CWlmY/s400/Maria_Montessori.jpg"/>
          <p:cNvPicPr/>
          <p:nvPr/>
        </p:nvPicPr>
        <p:blipFill>
          <a:blip r:embed="rId3"/>
          <a:stretch/>
        </p:blipFill>
        <p:spPr>
          <a:xfrm>
            <a:off x="228600" y="152280"/>
            <a:ext cx="768240" cy="99072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04040"/>
                </a:solidFill>
                <a:latin typeface="Georgia"/>
              </a:rPr>
              <a:t>Statement of the Hypothesis</a:t>
            </a:r>
            <a:endParaRPr b="0" lang="en-US" sz="3300" spc="-1" strike="noStrike">
              <a:solidFill>
                <a:srgbClr val="7b9899"/>
              </a:solidFill>
              <a:latin typeface="Georgia"/>
            </a:endParaRPr>
          </a:p>
        </p:txBody>
      </p:sp>
      <p:sp>
        <p:nvSpPr>
          <p:cNvPr id="627" name=""/>
          <p:cNvSpPr txBox="1"/>
          <p:nvPr/>
        </p:nvSpPr>
        <p:spPr>
          <a:xfrm>
            <a:off x="151920" y="1447560"/>
            <a:ext cx="8504280" cy="4949640"/>
          </a:xfrm>
          <a:prstGeom prst="rect">
            <a:avLst/>
          </a:prstGeom>
          <a:noFill/>
          <a:ln w="0">
            <a:noFill/>
          </a:ln>
        </p:spPr>
        <p:txBody>
          <a:bodyPr anchor="t">
            <a:normAutofit fontScale="98000"/>
          </a:bodyPr>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R 1:</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Over a period of 6 weeks, Ms. St. Pierre and Ms. William will plan and deliver a series of lessons to a first grade class in two different settings (charter school and public school).</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or the first 2 weeks, the teachers will implement a progressive, student-centered classroom management approach; where the students are allowed to govern themselves.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uring the second half of the study the teachers will implement a conservative, teacher-centered classroom management approach where a military style of discipline will be enforced.</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uring the final 2 weeks the teachers will implement a hybrid of teacher-centered and student-centered classroom management; where the students have procedures to follow and the teachers utilize actionable techniques to manage the students’ behavior. </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omparative study to determine if their findings were similar.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R2: </a:t>
            </a:r>
            <a:endParaRPr b="0" lang="en-US" sz="1500" spc="-1" strike="noStrike">
              <a:solidFill>
                <a:srgbClr val="000000"/>
              </a:solidFill>
              <a:latin typeface="Georgia"/>
            </a:endParaRPr>
          </a:p>
          <a:p>
            <a:pPr marL="267120" indent="-267120">
              <a:lnSpc>
                <a:spcPct val="80000"/>
              </a:lnSpc>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Using classroom management procedures and techniques during three-four  30 – 45 minute lesson a week for a 2 week period will increase academic success in reading and/or writing for 1</a:t>
            </a:r>
            <a:r>
              <a:rPr b="0" lang="en-US" sz="1500" spc="-1" strike="noStrike" baseline="30000">
                <a:solidFill>
                  <a:srgbClr val="000000"/>
                </a:solidFill>
                <a:latin typeface="Georgia"/>
              </a:rPr>
              <a:t>st</a:t>
            </a:r>
            <a:r>
              <a:rPr b="0" lang="en-US" sz="1500" spc="-1" strike="noStrike">
                <a:solidFill>
                  <a:srgbClr val="000000"/>
                </a:solidFill>
                <a:latin typeface="Georgia"/>
              </a:rPr>
              <a:t> grade students at PS X in Manhattan and X Charter School in Brooklyn.</a:t>
            </a:r>
            <a:endParaRPr b="0" lang="en-US" sz="1500" spc="-1" strike="noStrike">
              <a:solidFill>
                <a:srgbClr val="000000"/>
              </a:solidFill>
              <a:latin typeface="Georgia"/>
            </a:endParaRPr>
          </a:p>
          <a:p>
            <a:pPr marL="267120" indent="-2671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Tree>
  </p:cSld>
  <p:transition spd="med">
    <p:wipe dir="d"/>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eorgia"/>
              </a:rPr>
              <a:t>Method</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ticipants</a:t>
            </a:r>
            <a:endParaRPr b="0" lang="en-US" sz="24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researchers selected two first grade classrooms, one at a charter school and the other a public school to conduct the action research. X Charter school is located in Brooklyn, NY and PS X is located in New York, NY. Both classrooms have a total of 24-28 students.</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 research will take place within a six week period. The first two weeks of the study the teachers will implement a student-centered classroom management approach. The next two weeks of the study the teacher will implement a  teacher-centered classroom management approach. The final two weeks of the study the teachers will implement a hybrid approach using the Lemov techniques. After each approach the teachers will assess the students’ academic achievement.</a:t>
            </a:r>
            <a:br>
              <a:rPr sz="1600"/>
            </a:br>
            <a:r>
              <a:rPr b="0" lang="en-US" sz="1600" spc="-1" strike="noStrike">
                <a:solidFill>
                  <a:srgbClr val="000000"/>
                </a:solidFill>
                <a:latin typeface="Georgia"/>
              </a:rPr>
              <a:t> </a:t>
            </a:r>
            <a:endParaRPr b="0" lang="en-US" sz="16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struments (s)</a:t>
            </a:r>
            <a:endParaRPr b="0" lang="en-US" sz="20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There will be two surveys one for student and one for teacher. </a:t>
            </a:r>
            <a:endParaRPr b="0" lang="en-US" sz="1600" spc="-1" strike="noStrike">
              <a:solidFill>
                <a:srgbClr val="000000"/>
              </a:solidFill>
              <a:latin typeface="Georgia"/>
            </a:endParaRPr>
          </a:p>
          <a:p>
            <a:pPr marL="272880" indent="-272880">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ading assessment and writing samples will be analyzed from both schools.</a:t>
            </a:r>
            <a:endParaRPr b="0" lang="en-US" sz="1600" spc="-1" strike="noStrike">
              <a:solidFill>
                <a:srgbClr val="000000"/>
              </a:solidFill>
              <a:latin typeface="Georg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References</a:t>
            </a:r>
            <a:r>
              <a:rPr b="0" lang="en-US" sz="3300" spc="-1" strike="noStrike">
                <a:solidFill>
                  <a:srgbClr val="7b9899"/>
                </a:solidFill>
                <a:latin typeface="Georgia"/>
              </a:rPr>
              <a:t> </a:t>
            </a:r>
            <a:endParaRPr b="0" lang="en-US" sz="3300" spc="-1" strike="noStrike">
              <a:solidFill>
                <a:srgbClr val="7b9899"/>
              </a:solidFill>
              <a:latin typeface="Georgia"/>
            </a:endParaRPr>
          </a:p>
        </p:txBody>
      </p:sp>
      <p:sp>
        <p:nvSpPr>
          <p:cNvPr id="631" name=""/>
          <p:cNvSpPr txBox="1"/>
          <p:nvPr/>
        </p:nvSpPr>
        <p:spPr>
          <a:xfrm>
            <a:off x="301320" y="1526760"/>
            <a:ext cx="8504280" cy="5102280"/>
          </a:xfrm>
          <a:prstGeom prst="rect">
            <a:avLst/>
          </a:prstGeom>
          <a:noFill/>
          <a:ln w="0">
            <a:noFill/>
          </a:ln>
        </p:spPr>
        <p:txBody>
          <a:bodyPr anchor="t">
            <a:normAutofit/>
          </a:bodyPr>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Allen,  K. P.  (2010).  Classroom management, bullying and teacher practices.  </a:t>
            </a:r>
            <a:r>
              <a:rPr b="0" i="1" lang="en-US" sz="1300" spc="-1" strike="noStrike">
                <a:solidFill>
                  <a:srgbClr val="000000"/>
                </a:solidFill>
                <a:latin typeface="Georgia"/>
              </a:rPr>
              <a:t>The Professional Educator, 34(1).</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Clement, M. C. (2010).   Preparing teachers for classroom management: The teacher educator’s role. </a:t>
            </a:r>
            <a:r>
              <a:rPr b="0" i="1" lang="it-IT" sz="1300" spc="-1" strike="noStrike">
                <a:solidFill>
                  <a:srgbClr val="000000"/>
                </a:solidFill>
                <a:latin typeface="Georgia"/>
              </a:rPr>
              <a:t>Delta Kappa Gamma Bulletin</a:t>
            </a:r>
            <a:r>
              <a:rPr b="0" lang="it-IT" sz="1300" spc="-1" strike="noStrike">
                <a:solidFill>
                  <a:srgbClr val="000000"/>
                </a:solidFill>
                <a:latin typeface="Georgia"/>
              </a:rPr>
              <a:t>, 77(1), 41-44,</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 </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Georgia"/>
              </a:rPr>
              <a:t>Choi,  I. , &amp; Lee, K. (2009).  </a:t>
            </a:r>
            <a:r>
              <a:rPr b="0" lang="en-US" sz="1300" spc="-1" strike="noStrike">
                <a:solidFill>
                  <a:srgbClr val="000000"/>
                </a:solidFill>
                <a:latin typeface="Georgia"/>
              </a:rPr>
              <a:t>Designing and implementing a case-based learning environment for enhancing ill-structured problem solving: classroom management problems for prospective teachers. </a:t>
            </a:r>
            <a:r>
              <a:rPr b="0" i="1" lang="en-US" sz="1300" spc="-1" strike="noStrike">
                <a:solidFill>
                  <a:srgbClr val="000000"/>
                </a:solidFill>
                <a:latin typeface="Georgia"/>
              </a:rPr>
              <a:t>Educational Technology Research and Development</a:t>
            </a:r>
            <a:r>
              <a:rPr b="0" lang="en-US" sz="1300" spc="-1" strike="noStrike">
                <a:solidFill>
                  <a:srgbClr val="000000"/>
                </a:solidFill>
                <a:latin typeface="Georgia"/>
              </a:rPr>
              <a:t>,1-31.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Capizza, A. M.  (2009).  Start the year off right: Designing and Evaluating a supportive classroom management plan.  </a:t>
            </a:r>
            <a:r>
              <a:rPr b="0" i="1" lang="en-US" sz="1300" spc="-1" strike="noStrike">
                <a:solidFill>
                  <a:srgbClr val="000000"/>
                </a:solidFill>
                <a:latin typeface="Georgia"/>
              </a:rPr>
              <a:t>Journal of Focus on Exceptional Children</a:t>
            </a:r>
            <a:r>
              <a:rPr b="0" lang="en-US" sz="1300" spc="-1" strike="noStrike">
                <a:solidFill>
                  <a:srgbClr val="000000"/>
                </a:solidFill>
                <a:latin typeface="Georgia"/>
              </a:rPr>
              <a:t>, </a:t>
            </a:r>
            <a:r>
              <a:rPr b="0" i="1" lang="en-US" sz="1300" spc="-1" strike="noStrike">
                <a:solidFill>
                  <a:srgbClr val="000000"/>
                </a:solidFill>
                <a:latin typeface="Georgia"/>
              </a:rPr>
              <a:t>42 </a:t>
            </a:r>
            <a:r>
              <a:rPr b="0" lang="en-US" sz="1300" spc="-1" strike="noStrike">
                <a:solidFill>
                  <a:srgbClr val="000000"/>
                </a:solidFill>
                <a:latin typeface="Georgia"/>
              </a:rPr>
              <a:t>(3), 1-12.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ewey, J (1916). </a:t>
            </a:r>
            <a:r>
              <a:rPr b="0" lang="en-US" sz="1300" spc="-1" strike="noStrike" u="sng">
                <a:solidFill>
                  <a:srgbClr val="000000"/>
                </a:solidFill>
                <a:uFillTx/>
                <a:latin typeface="Georgia"/>
              </a:rPr>
              <a:t>Democracy</a:t>
            </a:r>
            <a:r>
              <a:rPr b="0" lang="en-US" sz="1300" spc="-1" strike="noStrike">
                <a:solidFill>
                  <a:srgbClr val="000000"/>
                </a:solidFill>
                <a:latin typeface="Georgia"/>
              </a:rPr>
              <a:t> and Education: An Introduction to the Philosophy of Education. In  F. Shultz, </a:t>
            </a:r>
            <a:r>
              <a:rPr b="0" i="1" lang="en-US" sz="1300" spc="-1" strike="noStrike">
                <a:solidFill>
                  <a:srgbClr val="000000"/>
                </a:solidFill>
                <a:latin typeface="Georgia"/>
              </a:rPr>
              <a:t>S.O.U.R.C.E.S</a:t>
            </a:r>
            <a:r>
              <a:rPr b="0" lang="en-US" sz="1300" spc="-1" strike="noStrike">
                <a:solidFill>
                  <a:srgbClr val="000000"/>
                </a:solidFill>
                <a:latin typeface="Georgia"/>
              </a:rPr>
              <a:t>: </a:t>
            </a:r>
            <a:r>
              <a:rPr b="0" i="1" lang="en-US" sz="1300" spc="-1" strike="noStrike">
                <a:solidFill>
                  <a:srgbClr val="000000"/>
                </a:solidFill>
                <a:latin typeface="Georgia"/>
              </a:rPr>
              <a:t>Notable selections in Education</a:t>
            </a:r>
            <a:r>
              <a:rPr b="0" lang="en-US" sz="1300" spc="-1" strike="noStrike">
                <a:solidFill>
                  <a:srgbClr val="000000"/>
                </a:solidFill>
                <a:latin typeface="Georgia"/>
              </a:rPr>
              <a:t> , pp. 39-44.</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eorgia"/>
              </a:rPr>
              <a:t>Downer, J. T.,  La Paro, K. M.,  &amp; Pianta,  R. C.,  Rimm-Kaufman, S. </a:t>
            </a:r>
            <a:r>
              <a:rPr b="0" lang="it-IT" sz="1300" spc="-1" strike="noStrike">
                <a:solidFill>
                  <a:srgbClr val="000000"/>
                </a:solidFill>
                <a:latin typeface="Georgia"/>
              </a:rPr>
              <a:t>E. (2005).  </a:t>
            </a:r>
            <a:r>
              <a:rPr b="0" lang="en-US" sz="1300" spc="-1" strike="noStrike">
                <a:solidFill>
                  <a:srgbClr val="000000"/>
                </a:solidFill>
                <a:latin typeface="Georgia"/>
              </a:rPr>
              <a:t>The Contribution of Classroom Setting and Quality of Instruction to Children’s Behavior in Kindergarten Classrooms.  </a:t>
            </a:r>
            <a:r>
              <a:rPr b="0" i="1" lang="en-US" sz="1300" spc="-1" strike="noStrike">
                <a:solidFill>
                  <a:srgbClr val="000000"/>
                </a:solidFill>
                <a:latin typeface="Georgia"/>
              </a:rPr>
              <a:t>The Elementary School Journal</a:t>
            </a:r>
            <a:r>
              <a:rPr b="0" lang="en-US" sz="1300" spc="-1" strike="noStrike">
                <a:solidFill>
                  <a:srgbClr val="000000"/>
                </a:solidFill>
                <a:latin typeface="Georgia"/>
              </a:rPr>
              <a:t>, </a:t>
            </a:r>
            <a:r>
              <a:rPr b="0" i="1" lang="en-US" sz="1300" spc="-1" strike="noStrike">
                <a:solidFill>
                  <a:srgbClr val="000000"/>
                </a:solidFill>
                <a:latin typeface="Georgia"/>
              </a:rPr>
              <a:t>105</a:t>
            </a:r>
            <a:r>
              <a:rPr b="0" lang="en-US" sz="1300" spc="-1" strike="noStrike">
                <a:solidFill>
                  <a:srgbClr val="000000"/>
                </a:solidFill>
                <a:latin typeface="Georgia"/>
              </a:rPr>
              <a:t>(4), 377-394. Retrieved from E-Journals database.</a:t>
            </a: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1:09:33Z</dcterms:created>
  <dc:creator>Windows User</dc:creator>
  <dc:description/>
  <dc:language>en-US</dc:language>
  <cp:lastModifiedBy>BC</cp:lastModifiedBy>
  <dcterms:modified xsi:type="dcterms:W3CDTF">2010-12-07T23:27:55Z</dcterms:modified>
  <cp:revision>82</cp:revision>
  <dc:subject/>
  <dc:title>Slide 1</dc:title>
</cp:coreProperties>
</file>